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.png" ContentType="image/png"/>
  <Override PartName="/ppt/media/image25.png" ContentType="image/png"/>
  <Override PartName="/ppt/media/image28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2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46A22-10F2-4010-9C41-5DBA38A653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7EAD-99B0-46F9-A2DC-CB898044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46A7F-9AFA-4E3C-86CB-588D4AC0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3883A-E3BA-4C71-9695-C14E3A5354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17098-687E-4308-BD7E-2F021510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BEB0-A612-4D28-B20C-B3624991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C1078-A6F2-4861-9B82-940F9728B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578EC-BE35-4D27-AB38-8A97F0FF8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C7973-79EF-4F7B-A633-CA4F1B38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9EF4-4A23-4DAA-88D1-D3AACD5C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C3F3-39D1-45F2-8D0E-ECB9094C7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C5E7-3DC5-46F8-8A2C-DAA00959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212D-7A18-4C4D-86FE-68D55BB813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B249-06D5-4CE9-B72D-0CD478E3AD63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8280"/>
              <a:ext cx="9115560" cy="1809360"/>
              <a:chOff x="28440" y="5048280"/>
              <a:chExt cx="9115560" cy="180936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8280"/>
                <a:ext cx="9115560" cy="1809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828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2840"/>
              <a:chOff x="0" y="4689360"/>
              <a:chExt cx="9097920" cy="40284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1840"/>
                <a:ext cx="9097920" cy="35964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小儿生长发育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北京大学护理学院    杨园园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FFFB-B2AF-40AC-B7BD-017D4E40DD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8135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增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前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600~8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后半年每月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300~400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9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12kg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青春期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年增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kg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6588000" y="4292640"/>
            <a:ext cx="2109960" cy="2057400"/>
          </a:xfrm>
          <a:prstGeom prst="foldedCorner">
            <a:avLst>
              <a:gd name="adj" fmla="val 12500"/>
            </a:avLst>
          </a:prstGeom>
          <a:solidFill>
            <a:srgbClr val="fff7a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年龄越小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楷体_GB2312"/>
              </a:rPr>
              <a:t>增长越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90357-217A-4E58-B8E2-13509697EBA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23600" y="1905120"/>
            <a:ext cx="80391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位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~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7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6+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0.2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~1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年龄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×2+8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2E04-4D4C-45A6-B423-7F7D291CC4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 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1800" y="1295280"/>
            <a:ext cx="8420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零点，排空大小便，脱去外衣、鞋、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位、卧位、立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单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AAD9-0034-4021-BD90-C31BBD870B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70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6560" y="981000"/>
            <a:ext cx="7696440" cy="52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046ca6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顶到足底的全身长度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身高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50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7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85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Comic Sans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后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7cm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估算公式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年龄（岁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×7+75(cm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62A2-2B82-4FF5-9996-90B8693400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身 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测量注意事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脱去鞋、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立、两眼正视前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脚跟靠拢，脚尖分开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0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足后跟、臀部、肩胛间同时接触墙壁，在一条直线上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1FA7-08C6-4ED8-AD0D-D8F421D1F12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 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顶到坐骨结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以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顶臀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反映头颅与脊柱的生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1941B-1239-49CB-B584-B79C728997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3200" y="219240"/>
            <a:ext cx="7542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8400" y="1333080"/>
            <a:ext cx="8191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 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眉弓上方，枕骨隆凸绕头一周的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34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6cm → 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8cm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0cm → 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8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最有价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较小：脑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围增长过快：脑积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8CB5-E3FE-401D-AE9B-C82DC6FC057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23960" y="1267920"/>
            <a:ext cx="769608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 沿乳头下缘水平绕胸一周的长度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增长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出生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＜头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相差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cm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头围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岁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青春期前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胸围＞头围</a:t>
            </a:r>
            <a:br>
              <a:rPr sz="2000"/>
            </a:b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50B7-E8A0-4D59-97A8-7F035FC395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速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匀称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E02D1-A464-42D0-82D6-5DFDCFFB30A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的评价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值离差法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均值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±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倍标准差为正常范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百分位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用于正态或非正态分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97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为正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法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kaup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数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MI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曲线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71280" y="2060640"/>
            <a:ext cx="49690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生长发育的规律及影响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763640" y="521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898640" y="52941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2852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体格生长发育及评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71640" y="3860640"/>
            <a:ext cx="49690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与体格生长有关的其他系统的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71640" y="5084640"/>
            <a:ext cx="4969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生长发育中的特殊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71640" y="3573360"/>
            <a:ext cx="496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儿神经心理发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>
              <a:lnSpc>
                <a:spcPct val="200000"/>
              </a:lnSpc>
              <a:spcBef>
                <a:spcPts val="1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7AEF-B237-4651-AF62-AC244B38FD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3960" y="1268280"/>
            <a:ext cx="4457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骨骼发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头颅骨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中点宽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5~2cm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~1.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岁闭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早闭：小头畸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过大：佝偻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ddb52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后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周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骨缝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月闭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4" descr="前囟"/>
          <p:cNvPicPr/>
          <p:nvPr/>
        </p:nvPicPr>
        <p:blipFill>
          <a:blip r:embed="rId1"/>
          <a:srcRect l="28327" t="13730" r="5896" b="-34"/>
          <a:stretch/>
        </p:blipFill>
        <p:spPr>
          <a:xfrm>
            <a:off x="5791320" y="1752480"/>
            <a:ext cx="2514600" cy="3353040"/>
          </a:xfrm>
          <a:prstGeom prst="rect">
            <a:avLst/>
          </a:prstGeom>
          <a:ln w="0">
            <a:noFill/>
          </a:ln>
        </p:spPr>
      </p:pic>
      <p:sp>
        <p:nvSpPr>
          <p:cNvPr id="201" name="Line 5"/>
          <p:cNvSpPr/>
          <p:nvPr/>
        </p:nvSpPr>
        <p:spPr>
          <a:xfrm flipH="1">
            <a:off x="5790960" y="2438280"/>
            <a:ext cx="11430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Line 6"/>
          <p:cNvSpPr/>
          <p:nvPr/>
        </p:nvSpPr>
        <p:spPr>
          <a:xfrm flipH="1">
            <a:off x="5715000" y="4876920"/>
            <a:ext cx="12952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4952880" y="21337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前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4876920" y="4572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后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Text Box 18"/>
          <p:cNvSpPr/>
          <p:nvPr/>
        </p:nvSpPr>
        <p:spPr>
          <a:xfrm>
            <a:off x="7772400" y="14479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冠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Text Box 19"/>
          <p:cNvSpPr/>
          <p:nvPr/>
        </p:nvSpPr>
        <p:spPr>
          <a:xfrm>
            <a:off x="7772400" y="4267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矢状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Line 20"/>
          <p:cNvSpPr/>
          <p:nvPr/>
        </p:nvSpPr>
        <p:spPr>
          <a:xfrm flipV="1">
            <a:off x="7696080" y="1904760"/>
            <a:ext cx="68580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Line 21"/>
          <p:cNvSpPr/>
          <p:nvPr/>
        </p:nvSpPr>
        <p:spPr>
          <a:xfrm>
            <a:off x="7010280" y="3657600"/>
            <a:ext cx="1219320" cy="6094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CFE1-4D33-41AF-853A-361D7DE259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0" name="Picture 2" descr="Skeletal spine"/>
          <p:cNvPicPr/>
          <p:nvPr/>
        </p:nvPicPr>
        <p:blipFill>
          <a:blip r:embed="rId1"/>
          <a:srcRect l="25446" t="0" r="44647" b="0"/>
          <a:stretch/>
        </p:blipFill>
        <p:spPr>
          <a:xfrm>
            <a:off x="6929280" y="1471680"/>
            <a:ext cx="1914840" cy="5479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174600" y="2260440"/>
          <a:ext cx="7002360" cy="4213440"/>
        </p:xfrm>
        <a:graphic>
          <a:graphicData uri="http://schemas.openxmlformats.org/drawingml/2006/table">
            <a:tbl>
              <a:tblPr/>
              <a:tblGrid>
                <a:gridCol w="3397320"/>
                <a:gridCol w="1514520"/>
                <a:gridCol w="2090520"/>
              </a:tblGrid>
              <a:tr h="64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动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脊柱弯曲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1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抬头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颈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46ca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9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个月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独坐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胸椎后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1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走路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腰椎前凸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2" name="Line 27"/>
          <p:cNvSpPr/>
          <p:nvPr/>
        </p:nvSpPr>
        <p:spPr>
          <a:xfrm>
            <a:off x="6648480" y="3224160"/>
            <a:ext cx="13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28"/>
          <p:cNvSpPr/>
          <p:nvPr/>
        </p:nvSpPr>
        <p:spPr>
          <a:xfrm>
            <a:off x="6627960" y="4410000"/>
            <a:ext cx="1409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Line 29"/>
          <p:cNvSpPr/>
          <p:nvPr/>
        </p:nvSpPr>
        <p:spPr>
          <a:xfrm>
            <a:off x="6653160" y="5602320"/>
            <a:ext cx="141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Rectangle 31"/>
          <p:cNvSpPr/>
          <p:nvPr/>
        </p:nvSpPr>
        <p:spPr>
          <a:xfrm>
            <a:off x="6786720" y="6072120"/>
            <a:ext cx="1357200" cy="98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Rectangle 32"/>
          <p:cNvSpPr/>
          <p:nvPr/>
        </p:nvSpPr>
        <p:spPr>
          <a:xfrm>
            <a:off x="2270160" y="1217520"/>
            <a:ext cx="30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柱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7" name="Picture 33" descr="大运动"/>
          <p:cNvPicPr/>
          <p:nvPr/>
        </p:nvPicPr>
        <p:blipFill>
          <a:blip r:embed="rId2"/>
          <a:srcRect l="31879" t="12406" r="31443" b="70086"/>
          <a:stretch/>
        </p:blipFill>
        <p:spPr>
          <a:xfrm>
            <a:off x="1814400" y="2776680"/>
            <a:ext cx="160020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4" descr="大运动"/>
          <p:cNvPicPr/>
          <p:nvPr/>
        </p:nvPicPr>
        <p:blipFill>
          <a:blip r:embed="rId3"/>
          <a:srcRect l="30134" t="41253" r="31443" b="38323"/>
          <a:stretch/>
        </p:blipFill>
        <p:spPr>
          <a:xfrm>
            <a:off x="1544760" y="3728880"/>
            <a:ext cx="1811160" cy="11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5" descr="大运动"/>
          <p:cNvPicPr/>
          <p:nvPr/>
        </p:nvPicPr>
        <p:blipFill>
          <a:blip r:embed="rId4"/>
          <a:srcRect l="30134" t="68629" r="31443" b="3645"/>
          <a:stretch/>
        </p:blipFill>
        <p:spPr>
          <a:xfrm>
            <a:off x="1616040" y="4896000"/>
            <a:ext cx="1638360" cy="141444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678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与体格生长有关的其他系统发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16FF-E173-4F93-B248-E0CB047AEC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牙齿的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乳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生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最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出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出牙顺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恒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8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左右开始萌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0A69E-EF04-421B-9686-06DEF62250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227" name="Picture 4" descr="乳牙萌出">
            <a:hlinkClick r:id="rId1" action="ppaction://hlinksldjump"/>
          </p:cNvPr>
          <p:cNvPicPr/>
          <p:nvPr/>
        </p:nvPicPr>
        <p:blipFill>
          <a:blip r:embed="rId2"/>
          <a:srcRect l="10530" t="0" r="12609" b="-1231"/>
          <a:stretch/>
        </p:blipFill>
        <p:spPr>
          <a:xfrm>
            <a:off x="477720" y="803160"/>
            <a:ext cx="8058240" cy="5772240"/>
          </a:xfrm>
          <a:prstGeom prst="rect">
            <a:avLst/>
          </a:prstGeom>
          <a:ln w="0">
            <a:noFill/>
          </a:ln>
        </p:spPr>
      </p:pic>
      <p:sp>
        <p:nvSpPr>
          <p:cNvPr id="228" name="圆角矩形 6"/>
          <p:cNvSpPr/>
          <p:nvPr/>
        </p:nvSpPr>
        <p:spPr>
          <a:xfrm>
            <a:off x="1278000" y="1698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圆角矩形 7"/>
          <p:cNvSpPr/>
          <p:nvPr/>
        </p:nvSpPr>
        <p:spPr>
          <a:xfrm>
            <a:off x="3882960" y="17049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圆角矩形 8"/>
          <p:cNvSpPr/>
          <p:nvPr/>
        </p:nvSpPr>
        <p:spPr>
          <a:xfrm>
            <a:off x="6494400" y="1719360"/>
            <a:ext cx="406440" cy="363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圆角矩形 9"/>
          <p:cNvSpPr/>
          <p:nvPr/>
        </p:nvSpPr>
        <p:spPr>
          <a:xfrm>
            <a:off x="1371600" y="4289400"/>
            <a:ext cx="40644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圆角矩形 10"/>
          <p:cNvSpPr/>
          <p:nvPr/>
        </p:nvSpPr>
        <p:spPr>
          <a:xfrm>
            <a:off x="4100400" y="4173480"/>
            <a:ext cx="406440" cy="362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圆角矩形 11"/>
          <p:cNvSpPr/>
          <p:nvPr/>
        </p:nvSpPr>
        <p:spPr>
          <a:xfrm>
            <a:off x="6531120" y="4137120"/>
            <a:ext cx="406080" cy="36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6706-4CDD-424A-B6A9-FEE5122824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殖系统发育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第二性征发育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早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前出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发育延迟：女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，男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8C12-DA93-4DCE-9771-B43D42C3E98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380880" y="1066680"/>
            <a:ext cx="49053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视 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出生时  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最清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看亮色、人脸、笑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协调注视物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随物水平转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80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随物垂直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区别颜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视力达到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.0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9" name="Picture 5" descr="照片 036"/>
          <p:cNvPicPr/>
          <p:nvPr/>
        </p:nvPicPr>
        <p:blipFill>
          <a:blip r:embed="rId1"/>
          <a:srcRect l="0" t="0" r="46771" b="0"/>
          <a:stretch/>
        </p:blipFill>
        <p:spPr>
          <a:xfrm>
            <a:off x="5724360" y="2421000"/>
            <a:ext cx="2981520" cy="2873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3"/>
          <p:cNvSpPr/>
          <p:nvPr/>
        </p:nvSpPr>
        <p:spPr>
          <a:xfrm>
            <a:off x="1162080" y="380880"/>
            <a:ext cx="7657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知觉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D78A8-0716-4B8C-879A-94BD6130A5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419112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华文宋体"/>
                <a:ea typeface="华文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胎儿   有听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新生儿 听力很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头可转向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 辨父母声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确定声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听懂简单吩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 听觉发育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156360" y="404640"/>
            <a:ext cx="265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听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4" name="Picture 5" descr="照片 037"/>
          <p:cNvPicPr/>
          <p:nvPr/>
        </p:nvPicPr>
        <p:blipFill>
          <a:blip r:embed="rId1"/>
          <a:stretch/>
        </p:blipFill>
        <p:spPr>
          <a:xfrm>
            <a:off x="4572000" y="1995480"/>
            <a:ext cx="454032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55E9-E7D2-459A-B61E-BA19AE9F96F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67800" y="980640"/>
            <a:ext cx="4983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出生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时   基本完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喜欢甜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月   对轻微改变很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华文宋体"/>
                <a:ea typeface="华文宋体"/>
              </a:rPr>
              <a:t>岁   喜吃异物，易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084720" y="404640"/>
            <a:ext cx="265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味 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F9CFA-F710-4F2A-9E4C-DDDAB090F5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3033360" y="304920"/>
            <a:ext cx="57150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嗅 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755640" y="83664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内容占位符 2"/>
          <p:cNvSpPr/>
          <p:nvPr/>
        </p:nvSpPr>
        <p:spPr>
          <a:xfrm>
            <a:off x="53352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时已基本完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~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能区别气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CE19-4D68-462C-9608-8800662617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皮肤感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触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嘴唇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温度觉：对冷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痛觉：不敏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28ae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述小儿体格生长常用指标的正常值和计算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说出与体格生长有关的各系统发育关键时点的变化特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叙述小儿感知、运动及语言发育的过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归纳小儿生长发育的规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总结影响小儿生长发育的因素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3517d"/>
                </a:solidFill>
                <a:latin typeface="宋体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评价不同年龄阶段小儿的生长发育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识别小儿生长发育中的异常情况，为小儿及家长进行健康指导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4BD1-FC07-4AF8-8990-A3EE13B92B2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FC9D-433D-46FD-AC51-0576AA09937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36520" y="-36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运动功能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7075440" cy="38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平衡和大运动：姿势和全身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规律：同生长发育规律的顺序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抬四翻六会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滚八爬周会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精细运动：手指功能的成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5275-1500-4848-B0A1-D1D59C414BD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抬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俯卧时必须有人看管，防止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护颈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C5E8-8405-445A-B46E-CDC53432CE0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翻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设置床挡或护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8653-BD4E-4A2E-B79B-E8D68A38C9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6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独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避免放置硬物、危险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训练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9F83-6088-4F36-8A2C-98EAB38732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3" name="Picture 3" descr="爬"/>
          <p:cNvPicPr/>
          <p:nvPr/>
        </p:nvPicPr>
        <p:blipFill>
          <a:blip r:embed="rId1"/>
          <a:stretch/>
        </p:blipFill>
        <p:spPr>
          <a:xfrm>
            <a:off x="1676520" y="1752480"/>
            <a:ext cx="601956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4DD5-1388-448B-AE50-FC4DF1F25D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723960" y="144144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爬行的作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锻炼肌力，促进生长发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大脑发育，认知能力的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促进平衡能力、协调能力，预防感觉统合失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1294920" y="-360"/>
            <a:ext cx="65516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大运动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-8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月爬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1A85-334B-429C-9203-EE6808FFC3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934320" y="356760"/>
            <a:ext cx="2209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精细动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124080" y="1371240"/>
            <a:ext cx="3848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新生儿握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握持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0" name="Picture 4" descr="手"/>
          <p:cNvPicPr/>
          <p:nvPr/>
        </p:nvPicPr>
        <p:blipFill>
          <a:blip r:embed="rId1"/>
          <a:srcRect l="6352" t="5951" r="9528" b="8720"/>
          <a:stretch/>
        </p:blipFill>
        <p:spPr>
          <a:xfrm>
            <a:off x="2819520" y="3200400"/>
            <a:ext cx="40384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05D6-076C-43E8-BB60-096D322405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560" y="999720"/>
            <a:ext cx="508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吃、玩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4" name="Picture 6" descr="照片 039"/>
          <p:cNvPicPr/>
          <p:nvPr/>
        </p:nvPicPr>
        <p:blipFill>
          <a:blip r:embed="rId1"/>
          <a:stretch/>
        </p:blipFill>
        <p:spPr>
          <a:xfrm>
            <a:off x="2517840" y="2127240"/>
            <a:ext cx="410688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733C-2F03-40F5-B308-C479C44BC4F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360" y="12855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手掌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Picture 3" descr="拾取"/>
          <p:cNvPicPr/>
          <p:nvPr/>
        </p:nvPicPr>
        <p:blipFill>
          <a:blip r:embed="rId1"/>
          <a:stretch/>
        </p:blipFill>
        <p:spPr>
          <a:xfrm>
            <a:off x="395280" y="1828800"/>
            <a:ext cx="4038480" cy="40114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" descr="0037"/>
          <p:cNvPicPr/>
          <p:nvPr/>
        </p:nvPicPr>
        <p:blipFill>
          <a:blip r:embed="rId2"/>
          <a:stretch/>
        </p:blipFill>
        <p:spPr>
          <a:xfrm>
            <a:off x="4876920" y="3200400"/>
            <a:ext cx="4114800" cy="309420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5"/>
          <p:cNvSpPr/>
          <p:nvPr/>
        </p:nvSpPr>
        <p:spPr>
          <a:xfrm>
            <a:off x="6781680" y="357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6A5C-E862-404F-B1DF-3D6598DA33B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714320" y="10717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 物体换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2" name="Picture 3" descr="两手互递物品"/>
          <p:cNvPicPr/>
          <p:nvPr/>
        </p:nvPicPr>
        <p:blipFill>
          <a:blip r:embed="rId1"/>
          <a:srcRect l="0" t="7930" r="0" b="0"/>
          <a:stretch/>
        </p:blipFill>
        <p:spPr>
          <a:xfrm>
            <a:off x="2786040" y="1714680"/>
            <a:ext cx="3073320" cy="470052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4"/>
          <p:cNvSpPr/>
          <p:nvPr/>
        </p:nvSpPr>
        <p:spPr>
          <a:xfrm>
            <a:off x="6705720" y="3571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2B0F-966D-48EA-A26B-49920DC8591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长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growt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小儿各器官、系统的长大和形态变化。量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development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细胞、组织、器官的分化完善和功能上的成熟。质的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9407-9439-41E8-8555-1358484430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214280" y="856800"/>
            <a:ext cx="6870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拇指、示指取物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6" name="Picture 3" descr="捏"/>
          <p:cNvPicPr/>
          <p:nvPr/>
        </p:nvPicPr>
        <p:blipFill>
          <a:blip r:embed="rId1"/>
          <a:stretch/>
        </p:blipFill>
        <p:spPr>
          <a:xfrm>
            <a:off x="539640" y="2205000"/>
            <a:ext cx="5029200" cy="404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夹物体"/>
          <p:cNvPicPr/>
          <p:nvPr/>
        </p:nvPicPr>
        <p:blipFill>
          <a:blip r:embed="rId2"/>
          <a:srcRect l="0" t="0" r="0" b="7473"/>
          <a:stretch/>
        </p:blipFill>
        <p:spPr>
          <a:xfrm>
            <a:off x="5853240" y="2060640"/>
            <a:ext cx="3290760" cy="41878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6705720" y="42876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E826-C7D7-4B6D-9044-F051E2E5095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36520" y="871200"/>
            <a:ext cx="68709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个月学会用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1" name="Picture 3" descr="用勺2"/>
          <p:cNvPicPr/>
          <p:nvPr/>
        </p:nvPicPr>
        <p:blipFill>
          <a:blip r:embed="rId1"/>
          <a:srcRect l="9462" t="1686" r="12164" b="3832"/>
          <a:stretch/>
        </p:blipFill>
        <p:spPr>
          <a:xfrm>
            <a:off x="2362320" y="1828800"/>
            <a:ext cx="4419360" cy="426708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4"/>
          <p:cNvSpPr/>
          <p:nvPr/>
        </p:nvSpPr>
        <p:spPr>
          <a:xfrm>
            <a:off x="6629400" y="28584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1F18D-2F15-4DDA-97B4-CF23356AF3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2960" y="785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岁会自己穿衣服、穿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5" name="Picture 3" descr="脱衣"/>
          <p:cNvPicPr/>
          <p:nvPr/>
        </p:nvPicPr>
        <p:blipFill>
          <a:blip r:embed="rId1"/>
          <a:srcRect l="12609" t="1877" r="16509" b="4088"/>
          <a:stretch/>
        </p:blipFill>
        <p:spPr>
          <a:xfrm>
            <a:off x="2357280" y="192888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4"/>
          <p:cNvSpPr/>
          <p:nvPr/>
        </p:nvSpPr>
        <p:spPr>
          <a:xfrm>
            <a:off x="6781680" y="42876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精细动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3A7DB-3D52-4C09-9681-E368925914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安全，预防意外伤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配合小儿的动作发展规律进行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1" name="Picture 3" descr="02_RQHEdbv5UXWF"/>
          <p:cNvPicPr/>
          <p:nvPr/>
        </p:nvPicPr>
        <p:blipFill>
          <a:blip r:embed="rId1"/>
          <a:stretch/>
        </p:blipFill>
        <p:spPr>
          <a:xfrm>
            <a:off x="5857920" y="2857680"/>
            <a:ext cx="2379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DDE2-9C16-4B4C-A601-176A8CA274B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音阶段（出生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：准备阶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元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发辅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无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 有意识叫“爸爸、妈妈”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EB37-F058-4E44-A863-4EF6141B57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理解某些常用物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   叫出自己的名字－自我意识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标题 1"/>
          <p:cNvSpPr/>
          <p:nvPr/>
        </p:nvSpPr>
        <p:spPr>
          <a:xfrm>
            <a:off x="990720" y="357120"/>
            <a:ext cx="80769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语言的发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E530-C61A-490F-9AC5-B29F50CBAF9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语言的发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达语言阶段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</a:t>
            </a:r>
            <a:r>
              <a:rPr b="1" lang="zh-CN" sz="2800" spc="-1" strike="noStrike">
                <a:solidFill>
                  <a:srgbClr val="151311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叫出身体各部分的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岁     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构成的句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单词→句子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词→代名词、动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句→复杂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DA44-0E80-4F64-93DB-9679E77168E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期：无意注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有意注意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幼儿期和学龄前期：无意注意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C026C-FD6B-4107-B2E7-8D0123F750B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忆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儿只有再认而无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才有重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机械记忆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有意记忆能力增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96B6-5C8C-4560-8C6F-3FDE082A8F0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思维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开始产生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前直觉行动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以具体形象思维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以后学会抽象思维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3DC4-773D-4B8C-86B8-5A0CD7ACFC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生长发育的规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连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阶段性：高峰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婴儿期、青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各器官系统发育不平衡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序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体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46E8-BE12-4D36-BCE0-7C2BC04708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想象力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：想象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：无意想象和再造想象为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期：有意想象和创造想象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BEDB-7366-4FE9-AED2-01DC805810C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志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无意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婴幼儿意志萌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078B-5EAE-4EE1-B008-ED1059A3DC3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活动的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和情感的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新生儿消极情绪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积极情绪增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个月时，依恋、怯生情绪产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岁开始，情感表现日渐丰富和复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龄前期能有意识地控制自己情感的外部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小儿生长发育中的特殊问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格生长偏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行为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E8FD-B99B-4DFA-96BE-B5E89A452DB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CF3B-6459-4FC2-ABBB-02A303F13C9E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偏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重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低下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2" marL="743040" indent="-343080">
              <a:lnSpc>
                <a:spcPct val="150000"/>
              </a:lnSpc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体重过重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身高生长偏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矮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身材过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9775-1E88-4FB6-A7EA-C23EB33577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052C-0DC2-4F69-BE80-018DE1DEF38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心理行为异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250920" y="1052640"/>
            <a:ext cx="86104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行为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屏气发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吮拇指癖与咬指甲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动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遗尿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儿童孤独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力缺陷多动障碍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学习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EE96-AB02-40AC-881D-58400C1CFEB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B324-8ED7-44E0-ABEE-718E8315E001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602A5-7515-4B46-A88B-0A6DAE122EC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1" name="WordArt 2"/>
          <p:cNvSpPr txBox="1"/>
          <p:nvPr/>
        </p:nvSpPr>
        <p:spPr>
          <a:xfrm>
            <a:off x="2643120" y="2643120"/>
            <a:ext cx="3733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770E-4520-452D-89D8-71E414DCC8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36520" y="228240"/>
            <a:ext cx="68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不平衡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47" name="Picture 4" descr="发育规律图">
            <a:hlinkClick r:id="rId1" action="ppaction://hlinksldjump"/>
          </p:cNvPr>
          <p:cNvPicPr/>
          <p:nvPr/>
        </p:nvPicPr>
        <p:blipFill>
          <a:blip r:embed="rId2"/>
          <a:srcRect l="19811" t="0" r="21113" b="10781"/>
          <a:stretch/>
        </p:blipFill>
        <p:spPr>
          <a:xfrm>
            <a:off x="2424240" y="1143000"/>
            <a:ext cx="4308480" cy="4894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1920960" y="1944720"/>
            <a:ext cx="546120" cy="30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各系统发育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%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37B8-AEB0-44A7-A058-F4D61C48342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01680" y="19191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上   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    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粗    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级   高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单   复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136520" y="228600"/>
            <a:ext cx="687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顺序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Line 6"/>
          <p:cNvSpPr/>
          <p:nvPr/>
        </p:nvSpPr>
        <p:spPr>
          <a:xfrm>
            <a:off x="1692360" y="2133720"/>
            <a:ext cx="3664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1692360" y="270828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1692360" y="3213000"/>
            <a:ext cx="380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Line 9"/>
          <p:cNvSpPr/>
          <p:nvPr/>
        </p:nvSpPr>
        <p:spPr>
          <a:xfrm>
            <a:off x="2050920" y="371628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Line 10"/>
          <p:cNvSpPr/>
          <p:nvPr/>
        </p:nvSpPr>
        <p:spPr>
          <a:xfrm>
            <a:off x="2050920" y="4221000"/>
            <a:ext cx="38124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7" name="Picture 11" descr="图片1">
            <a:hlinkClick r:id="rId1" action="ppaction://hlinksldjump"/>
          </p:cNvPr>
          <p:cNvPicPr/>
          <p:nvPr/>
        </p:nvPicPr>
        <p:blipFill>
          <a:blip r:embed="rId2"/>
          <a:srcRect l="0" t="0" r="0" b="7120"/>
          <a:stretch/>
        </p:blipFill>
        <p:spPr>
          <a:xfrm>
            <a:off x="4030560" y="1432080"/>
            <a:ext cx="388296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16462-2128-46F7-9ED4-98E6EE781FD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影响生长发育的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240" y="1412640"/>
            <a:ext cx="5715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遗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孕母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疾病和药物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AC50-6101-4B7E-8305-17A6DA1261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513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体格生长常用指标及测量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 重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weight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各器官、组织及体液的总重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反映体格生长、营养状况的最敏感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出生体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男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3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女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 3.2±0.4kg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生理性体重下降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ysiological weight los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出生第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周内，由于摄入不足、水分丧失及排除胎便，体重暂时性下降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3%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 9%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华文宋体"/>
              </a:rPr>
              <a:t>日恢复到出生时的水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刘云涛</cp:lastModifiedBy>
  <dcterms:modified xsi:type="dcterms:W3CDTF">2015-09-06T07:49:51Z</dcterms:modified>
  <cp:revision>156</cp:revision>
  <dc:subject/>
  <dc:title>内科护理学</dc:title>
</cp:coreProperties>
</file>